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12B9-3E94-499A-BDCA-1B5EE97466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24E1-9AB5-4E52-BACA-10D528E9F8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945E-B13F-4313-B1D0-3CEDDF9B1D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2773-55EB-4C72-92F8-9D20F9DC63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46A-2E85-44BC-AB74-701A245D69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A35-3B24-414C-94BD-1BB48421AB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0F16-D385-441F-A2F0-01A1D9D951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861-D469-44A0-8DCA-D59CD24F220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9AF-E3E8-441F-BEA1-AC7EAA84E2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A1D-DF25-46CE-B602-CFDC208FC36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A8B-2C4B-4A5A-AEC4-3EF622D9D8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088E-3949-4880-8376-E3A1E813CD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656-CDBA-49EB-87C1-651620E21B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96B-F4A8-4218-88D4-7AFDEE95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ACD-E2F9-4F32-94C2-4DA3D087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370-6C0F-4CF5-961D-F217429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415-FBA0-4BB2-AF8E-AEAB973F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300-DD99-4703-B906-22FCAFEA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A8B-B7BA-42EC-A108-BFD56BA4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9D5-66C2-42AA-8374-1CD8E7C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A6A-456C-4E3F-94D1-719C3383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E54-AE5A-44C3-B679-1233A87D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F9C-F493-4D3C-80A7-CB7437C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C98-56B4-4255-B6BA-E1CA6D0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E17-7C80-4E40-A2E9-2CEFF71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16D-866C-4108-AD6E-A75E742C7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Rectangle 6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40800"/>
            <a:ext cx="7772400" cy="83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Chemistry is Hard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, make, invent, develop, design, propose, predict, assemble, formulate, hypothe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, judge, revise, critique, defend, justify, assess, contrast, support, recommend, conclude, interpr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8436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s how we learn something n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80760"/>
            <a:ext cx="800100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8436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 what we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pay attention to move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5960" y="3740040"/>
            <a:ext cx="1663560" cy="22734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91480" y="385596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8436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for 7 things (on averag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a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3664080"/>
            <a:ext cx="1663920" cy="2273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15520" y="378000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209680" y="4952880"/>
            <a:ext cx="1371600" cy="38124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87760" y="4730760"/>
            <a:ext cx="2044800" cy="15876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638160" y="4998960"/>
            <a:ext cx="205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hort-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8436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process it further it stays with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something requires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5562720" y="4647960"/>
            <a:ext cx="1218960" cy="53316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15960" y="3740040"/>
            <a:ext cx="1663560" cy="22734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91480" y="385596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0" y="5029200"/>
            <a:ext cx="1371600" cy="38088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664080" y="4807080"/>
            <a:ext cx="2044440" cy="15872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714480" y="5075280"/>
            <a:ext cx="205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hort-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711840" y="3282840"/>
            <a:ext cx="1435320" cy="25783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765840" y="3940200"/>
            <a:ext cx="1408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emory Techniqu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earsal- 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nking- grouping the information into meaningful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ing general rules is easier than every specific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best by connecting new knowledge with old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 G B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nother Reason Chemistry is hard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math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math to ex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requi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ebra is used in this class regul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describe the world arou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hat can you do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600200" y="2209680"/>
            <a:ext cx="56386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e84400"/>
                  </a:solidFill>
                  <a:miter/>
                </a:ln>
                <a:solidFill>
                  <a:srgbClr val="fafd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actice!</a:t>
            </a:r>
            <a:endParaRPr b="0" lang="en-US" sz="2400" spc="1" strike="noStrike">
              <a:ln w="19080">
                <a:solidFill>
                  <a:srgbClr val="e84400"/>
                </a:solidFill>
                <a:miter/>
              </a:ln>
              <a:solidFill>
                <a:srgbClr val="fafd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800280" y="914400"/>
            <a:ext cx="7326000" cy="4884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928160" y="3078000"/>
            <a:ext cx="53528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fety Rule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working in the science laboratory, you will have certain important ____________________ that do not apply to other classrooms. You will be working with materials and apparatus which, if handled carelessly or improperly, have the potential to cause __________________ or discomfort to someone else as well as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18960" y="1234440"/>
            <a:ext cx="33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responsibili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38080" y="3412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ju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st who studied how people th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inking into level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level required using the information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st level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nowled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morizing textbook 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st but least 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28360"/>
            <a:ext cx="8001000" cy="39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ce laboratory can be a safe place in which to work if you, the student, are foresighted, alert, and cautious.  Violating any of the following regulations will result in you being _______________ from class or ______________________ from the class.  The following practices will be follow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429360" y="34290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usp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61400" y="391644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ermanently remo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n _________ must be present during the performance of all laboratory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Report any accident to the __________  immediately, no matter how_________, including reporting any burn, scratch, cut, or corrosive liquid on skin or cloth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repare for each laboratory activity by ________ all instructions before coming to class. Follow all _________ implicitly and intelligently. Make note of any _________ in procedure given by the instruc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87680" y="484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096600" y="14479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402240" y="1978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68120" y="38098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886920" y="426708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6325920" y="47242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d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8001000" cy="13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Any science project or individually planned experiment must be __________ by the tea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20574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Use only those materials and equipment _________ by the instr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3048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Inform the teacher ____________ of any equipment not work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6212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Clean up any nonhazardous _______ on the floor or workspace _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213200" y="14007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ro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10200" y="25138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uthor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725720" y="297108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564160" y="464724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631200" y="41140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32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Wear appropriate ______________, as directed by the instructor, whenever you are working in the laboratory. Safety goggles must be worn during hazardous _________ involving caustic/corrosive chemicals, heating of liquids, and other activities that may injure the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48320" y="15994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ye prote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067400" y="342828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3520" y="1560600"/>
            <a:ext cx="8001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Splashes and fumes from hazardous chemicals present a special danger to wearers of _____________. Therefore, students should preferably wear regular glasses  (inside splash -proof goggles, when appropriate) during  all class activities or purchase personal splash-proof  goggles and wear them whenever exposure to chemicals or chemical fumes is possi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Students with _________________ on hands must wear gloves or be excused from the laboratory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971440" y="1294560"/>
            <a:ext cx="289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tact len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038120" y="45720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pen skin wou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Never _______ hot equipment or dangerous chemicals through a ______ of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eck ______ and equipment instructions carefully. Be sure correct items are _______ in the proper ma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Be aware if the _________ being used are hazardous. Know where the material safety data sheet (_______) is and what it indicates for each of the hazardous chemicals you are u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819520" y="4874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r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782760" y="9144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2795400" y="19051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896560" y="2819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488120" y="33526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805360" y="42670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S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Never ______ anything or touch chemicals with the hands, unless __________ instructed to do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91640" y="4572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14760" y="13255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ecif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6880" y="25146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a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325200" y="29718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791680" y="38401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orat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707160" y="4373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09480" y="20271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Test for odor of chemicals only by ______ your hand above the container and sniffing cautiously from a 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533520" y="385596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Eating or drinking in the ____________ or from laboratory equipment is _____  permit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001000" cy="16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 When heating material in a test tube, do not ______ into the tube or point it in the direction of any person during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2333520"/>
            <a:ext cx="82296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 Never pour _________ back into bottles, exchange stoppers of bottles, or lay stoppers on the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09480" y="3733920"/>
            <a:ext cx="7848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. When diluting _____, always pour acids into _______, never the rever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075760" y="914400"/>
            <a:ext cx="1501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217680" y="2286000"/>
            <a:ext cx="23371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751560" y="3733920"/>
            <a:ext cx="1706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2608560" y="4191120"/>
            <a:ext cx="1750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160" y="571320"/>
            <a:ext cx="8001000" cy="24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. Wash hands as necessary and wash thoroughly at the __________ of the laborator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3352680"/>
            <a:ext cx="80010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. To treat a burn from an acid or alkali, wash the affected area ___________ with plenty of running water. If the eye is involved, irrigate it at the eyewash station without interruption for ___ minutes. Report the incident to your ___________ ___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895280" y="3657600"/>
            <a:ext cx="2922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751200" y="914400"/>
            <a:ext cx="2676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743000" y="4876920"/>
            <a:ext cx="120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943600" y="525780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tr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20760" y="56386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nderstanding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put the knowledge into you own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lic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use the information in new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nalysi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eaking the information into meaningful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ynthesi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put information together to generate new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. Know the _________ of the emergency shower, eyewash and facewash station, fire blanket, fire extinguisher, fire alarm box,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. Know the proper fire and earthquake drill 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 Roll long sleeves above the _______. Long, hanging necklaces, bulky jewelry, and excessive and bulky clothing should not be _____ in the labora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. Confine long hair during a __________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066480" y="533520"/>
            <a:ext cx="21556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616760" y="2895480"/>
            <a:ext cx="2789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266160" y="3505320"/>
            <a:ext cx="1593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50440" y="5791320"/>
            <a:ext cx="256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or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910160" y="4775040"/>
            <a:ext cx="1637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valu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ing all the information, making and defending value judgments about th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501480" y="615960"/>
            <a:ext cx="8141040" cy="5626080"/>
          </a:xfrm>
          <a:prstGeom prst="triangle">
            <a:avLst>
              <a:gd name="adj" fmla="val 4787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398760" y="5303880"/>
            <a:ext cx="21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70080" y="4618080"/>
            <a:ext cx="278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73480" y="3855960"/>
            <a:ext cx="237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35280" y="3170160"/>
            <a:ext cx="165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556080" y="2484360"/>
            <a:ext cx="180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421080" y="17985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1181160" y="5257800"/>
            <a:ext cx="670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638360" y="45720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171880" y="38098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705040" y="312408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3238560" y="23623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hat does this have to do with chemistry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884240"/>
            <a:ext cx="800100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 the past,  many of your classes relied on mem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 focuses on the higher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ask you to memorize a lot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sk you to learn processes and techniques and then apply them to novel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920880" y="692280"/>
            <a:ext cx="8140680" cy="5626080"/>
          </a:xfrm>
          <a:prstGeom prst="triangle">
            <a:avLst>
              <a:gd name="adj" fmla="val 4787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40120" y="187488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975120" y="2560680"/>
            <a:ext cx="180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54320" y="3246480"/>
            <a:ext cx="165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692520" y="3932280"/>
            <a:ext cx="237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89480" y="4694400"/>
            <a:ext cx="278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17800" y="5380200"/>
            <a:ext cx="21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600200" y="5334120"/>
            <a:ext cx="670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057400" y="464832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90920" y="3886200"/>
            <a:ext cx="464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048120" y="3200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581280" y="24382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820800" y="522756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97120" y="400860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897120" y="256068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837720" y="3886200"/>
            <a:ext cx="17528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837720" y="4648320"/>
            <a:ext cx="1219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rd do I have to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, what, where, when, tell, label, define, select, choose, identify, describe, r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mpreh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, explain, discuss, classify, recognize, summarize, para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, solve, teach, relate, explain, predict, compute, illustrate, simulate, demon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, dissect, outline, compare, organize, diagram, distinguish, investigate, catego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5:59:18Z</dcterms:created>
  <dc:creator>Thomas V. Green Jr.</dc:creator>
  <dc:description/>
  <dc:language>en-US</dc:language>
  <cp:lastModifiedBy>jluckey</cp:lastModifiedBy>
  <dcterms:modified xsi:type="dcterms:W3CDTF">2011-02-05T14:35:16Z</dcterms:modified>
  <cp:revision>13</cp:revision>
  <dc:subject/>
  <dc:title>Chemistry is Hard</dc:title>
</cp:coreProperties>
</file>